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182-5852-4714-BD22-82D372E9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538-D609-428A-8A92-601EC664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222-D191-4655-80DB-D99687B8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49B-A688-4D7F-8A2A-8CDFC14D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D6D-6D50-48F5-A7BD-41EA9F2E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CD3-D43E-410F-A013-6B8AE186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B6C-36A9-4682-B66E-F8B2F354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B78-B0A1-402E-97A1-C27CB505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2B6-E5FF-4814-B48F-343F1E87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0CAA-B79F-4BC6-B5BF-D7F90BA4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DEB-61B9-460E-B2D6-93923480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A33E-FEB0-4345-A5D3-CB659762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98CA-E79C-43EE-ADF3-6A5083EA8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cwiseowl.org/impac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youtube.com/watch?v=pMcfrLYDm2U" TargetMode="External"/><Relationship Id="rId4" Type="http://schemas.openxmlformats.org/officeDocument/2006/relationships/hyperlink" Target="file:///Impact%20Presentation.wmv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2590560"/>
            <a:ext cx="8610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embroke Midd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Home of the Warri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124160" cy="1992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5800" y="5808600"/>
            <a:ext cx="7620120" cy="150840"/>
          </a:xfrm>
          <a:prstGeom prst="rect">
            <a:avLst/>
          </a:prstGeom>
          <a:ln w="0">
            <a:noFill/>
          </a:ln>
        </p:spPr>
      </p:pic>
      <p:pic>
        <p:nvPicPr>
          <p:cNvPr id="44" name="warrior" descr=""/>
          <p:cNvPicPr/>
          <p:nvPr/>
        </p:nvPicPr>
        <p:blipFill>
          <a:blip r:embed="rId4"/>
          <a:stretch/>
        </p:blipFill>
        <p:spPr>
          <a:xfrm>
            <a:off x="3657600" y="4495680"/>
            <a:ext cx="18162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ACT Model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student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05120" y="4495680"/>
            <a:ext cx="5048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ve YOU Heard about IMP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76920" y="4986360"/>
            <a:ext cx="382896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nt To Know More About IMPA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www.ncwiseowl.org/impac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76920" y="4986360"/>
            <a:ext cx="382896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an IMPACT Model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-rich teaching and learn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-rich teaching and learn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 among teachers and media and technology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administrative leadership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t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510552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Implement the IMPACT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5181480"/>
            <a:ext cx="403884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8120" y="685800"/>
            <a:ext cx="25905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72428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/>
          </p:cNvPr>
          <p:cNvSpPr/>
          <p:nvPr/>
        </p:nvSpPr>
        <p:spPr>
          <a:xfrm>
            <a:off x="300960" y="59436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digital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lture of read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ve lessons/instructional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-centered, project-based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real-life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ed on higher-order thinking,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e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all oth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81480" y="5029200"/>
            <a:ext cx="365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TAC (Media and Technology Advisory Committe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goals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rogram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challenges to instructional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 for the media and technolog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recommend resources, hardware, and infra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95680" y="4876920"/>
            <a:ext cx="4038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ership, support, an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n technology-rich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and personnel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24280" y="5029200"/>
            <a:ext cx="4038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ology Facilit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and men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 provision and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advice and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5334120"/>
            <a:ext cx="40384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a Coordin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 appr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o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518148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 studen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k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ebrat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518148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10:10:57Z</dcterms:created>
  <dc:creator>Frances Brandburn</dc:creator>
  <dc:description/>
  <dc:language>en-US</dc:language>
  <cp:lastModifiedBy>PSRC</cp:lastModifiedBy>
  <cp:lastPrinted>2007-08-16T15:00:38Z</cp:lastPrinted>
  <dcterms:modified xsi:type="dcterms:W3CDTF">2007-08-21T02:11:28Z</dcterms:modified>
  <cp:revision>37</cp:revision>
  <dc:subject/>
  <dc:title>Slide 1</dc:title>
</cp:coreProperties>
</file>