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8E2-6456-4CEF-8A53-56C91593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928-00E2-45EA-AF4E-C7F83D6E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321-0A77-4E7B-AB7B-C4589E3C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13F-5E8C-4529-AF45-92D19D95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AE0-6E22-4C26-8FBC-BC7CF3E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5F1-0C3C-4293-8142-67603BA1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7A6-6242-441D-88B7-1BC91A1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CA8-B4C4-41EB-974E-034CFDA7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11C-86F1-47EF-A9DF-B65A9FA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4CE-929C-416B-880C-80BCC32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B0D-84FA-4DF7-8A7C-EA7F3507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8F0-3D64-4E34-9054-9038E9F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8111-9595-4CE2-A222-B9E6F08D7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cwiseowl.org/impac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pMcfrLYDm2U" TargetMode="External"/><Relationship Id="rId4" Type="http://schemas.openxmlformats.org/officeDocument/2006/relationships/hyperlink" Target="file:///Impact%20Presentation.wm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mbroke Mi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 of the Warri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2416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5808600"/>
            <a:ext cx="7620120" cy="150840"/>
          </a:xfrm>
          <a:prstGeom prst="rect">
            <a:avLst/>
          </a:prstGeom>
          <a:ln w="0">
            <a:noFill/>
          </a:ln>
        </p:spPr>
      </p:pic>
      <p:pic>
        <p:nvPicPr>
          <p:cNvPr id="44" name="warrior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816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 Model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student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04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ve YOU Heard about IMP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nt To Know More About 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ncwiseowl.org/impac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IMPACT Model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among teachers and media and technolog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dministrative leadership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t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mplement the I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403884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685800"/>
            <a:ext cx="2590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7242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30096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digital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of read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lessons/instru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centered, project-bas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real-lif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higher-order thinking,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l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5029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TAC (Media and Technology Advisory Committ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oal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hallenges to instruc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 for the media and technolog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commend resources, hardware, and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487692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, support, an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echnology-rich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nd personne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Facilit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ovision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dvice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40384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Coord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p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0:10:57Z</dcterms:created>
  <dc:creator>Frances Brandburn</dc:creator>
  <dc:description/>
  <dc:language>en-US</dc:language>
  <cp:lastModifiedBy>PSRC</cp:lastModifiedBy>
  <cp:lastPrinted>2007-08-16T15:00:38Z</cp:lastPrinted>
  <dcterms:modified xsi:type="dcterms:W3CDTF">2007-08-21T02:11:28Z</dcterms:modified>
  <cp:revision>37</cp:revision>
  <dc:subject/>
  <dc:title>Slide 1</dc:title>
</cp:coreProperties>
</file>