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6719-FC82-4EE5-B011-E328213E4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2AA2-5A9D-49D2-8681-4703F5047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B857-78CA-49F3-AFB4-4C85700D2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DE18-890B-4635-B768-7A54E7927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FF0B-B814-449F-A85B-C2D30B701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713B-EC74-4EE1-A262-4544628DC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2536-1E49-44EC-BEDC-CD4F0E40C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07FC-2501-40C0-AD1A-40D8A29A3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E953-EB1B-4FE0-B2DF-DEF0E3CEB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D5E9-CFCB-49BA-846F-2396FC88E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469D-E1AF-4E3A-B82D-9C21880FF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41A5-61E5-4596-AA1C-1117A827B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35BC2-8A02-4B12-930C-1AF308D4C4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ncwiseowl.org/impact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www.youtube.com/watch?v=pMcfrLYDm2U" TargetMode="External"/><Relationship Id="rId4" Type="http://schemas.openxmlformats.org/officeDocument/2006/relationships/hyperlink" Target="file:///Impact%20Presentation.wmv" TargetMode="External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28600" y="2590560"/>
            <a:ext cx="861048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Pembroke Middl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Home of the Warrior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2514600" y="228600"/>
            <a:ext cx="4124160" cy="19922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685800" y="5808600"/>
            <a:ext cx="7620120" cy="150840"/>
          </a:xfrm>
          <a:prstGeom prst="rect">
            <a:avLst/>
          </a:prstGeom>
          <a:ln w="0">
            <a:noFill/>
          </a:ln>
        </p:spPr>
      </p:pic>
      <p:pic>
        <p:nvPicPr>
          <p:cNvPr id="44" name="warrior" descr=""/>
          <p:cNvPicPr/>
          <p:nvPr/>
        </p:nvPicPr>
        <p:blipFill>
          <a:blip r:embed="rId4"/>
          <a:stretch/>
        </p:blipFill>
        <p:spPr>
          <a:xfrm>
            <a:off x="3657600" y="4495680"/>
            <a:ext cx="181620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MPACT Model Scho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PACT teac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PACT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PACT 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PACT student achiev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1905120" y="4495680"/>
            <a:ext cx="504828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at Have YOU Heard about IMPAC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4876920" y="4986360"/>
            <a:ext cx="382896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ant To Know More About IMPAC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0520" y="2590920"/>
            <a:ext cx="81536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ff"/>
                </a:solidFill>
                <a:uFillTx/>
                <a:latin typeface="Arial"/>
                <a:hlinkClick r:id="rId2"/>
              </a:rPr>
              <a:t>http://www.ncwiseowl.org/impact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4876920" y="4986360"/>
            <a:ext cx="382896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at is an IMPACT Model Schoo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chnology-rich teaching and learning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ource-rich teaching and learning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llaboration among teachers and media and technology perso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ong administrative leadership and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equate bud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572000" y="5105520"/>
            <a:ext cx="40384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y Implement the IMPACT Mode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724280" y="5181480"/>
            <a:ext cx="4038840" cy="13716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048120" y="685800"/>
            <a:ext cx="259056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4724280"/>
            <a:ext cx="1539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3"/>
          </p:cNvPr>
          <p:cNvSpPr/>
          <p:nvPr/>
        </p:nvSpPr>
        <p:spPr>
          <a:xfrm>
            <a:off x="300960" y="5943600"/>
            <a:ext cx="13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  <a:hlinkClick r:id="rId4"/>
              </a:rPr>
              <a:t>digital s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at Does It Look Lik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ulture of reading and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llaborative lessons/instructional un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udent-centered, project-based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ed on real-life situ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cused on higher-order thinking, problem-solving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ared suc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ariety of 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d all other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181480" y="5029200"/>
            <a:ext cx="36576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TAC (Media and Technology Advisory Committe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goals and pri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mote initi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e expec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e program effective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ndle challenges to instructional 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ocate for the media and technology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and recommend resources, hardware, and infrastruc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495680" y="4876920"/>
            <a:ext cx="40388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incip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adership, support, and v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ud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ched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cus on technology-rich teaching and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gram and personnel 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724280" y="5029200"/>
            <a:ext cx="40388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echnology Facilit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llab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chnology liter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ff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deling and men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alu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ource provision and sha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chnical advice and assi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648320" y="5334120"/>
            <a:ext cx="4038480" cy="12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edia Coordin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llab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formation liter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ding apprec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llection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ff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648320" y="5181480"/>
            <a:ext cx="40384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eac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lex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ssess student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llab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sk for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elebrate su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nge 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4648320" y="5181480"/>
            <a:ext cx="40384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1T10:10:57Z</dcterms:created>
  <dc:creator>Frances Brandburn</dc:creator>
  <dc:description/>
  <dc:language>en-US</dc:language>
  <cp:lastModifiedBy>PSRC</cp:lastModifiedBy>
  <cp:lastPrinted>2007-08-16T15:00:38Z</cp:lastPrinted>
  <dcterms:modified xsi:type="dcterms:W3CDTF">2007-08-21T02:11:28Z</dcterms:modified>
  <cp:revision>37</cp:revision>
  <dc:subject/>
  <dc:title>Slide 1</dc:title>
</cp:coreProperties>
</file>