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B985-C5C2-4DBD-99D8-893C873A5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7CB3-4DB2-4775-8707-695B0E3C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0F37-0FF2-40C8-B825-E6A99813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450C-3D04-490D-B9B1-ACBE7D67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5952-BC5B-4775-B8E7-1F2EA31B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41D2-2F8F-452E-85BF-64B0D9D7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9827-7670-4E54-90E5-718DE9D7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4193-205A-4905-A591-0A5C2C38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D163-F44B-46DB-BAE6-DA67EB32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0B6C-4228-488A-97BE-B70F959F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063E-0DEB-4D0D-864C-118383DC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3F23-D51F-4DC4-A6A6-FE60BCDF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5E07-A1C6-42C9-8904-43D201C4D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ncwiseowl.org/impact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youtube.com/watch?v=pMcfrLYDm2U" TargetMode="External"/><Relationship Id="rId4" Type="http://schemas.openxmlformats.org/officeDocument/2006/relationships/hyperlink" Target="file:///Impact%20Presentation.wmv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" y="2590560"/>
            <a:ext cx="86104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embroke Midd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Home of the Warrio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14600" y="228600"/>
            <a:ext cx="4124160" cy="1992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85800" y="5808600"/>
            <a:ext cx="7620120" cy="150840"/>
          </a:xfrm>
          <a:prstGeom prst="rect">
            <a:avLst/>
          </a:prstGeom>
          <a:ln w="0">
            <a:noFill/>
          </a:ln>
        </p:spPr>
      </p:pic>
      <p:pic>
        <p:nvPicPr>
          <p:cNvPr id="44" name="warrior" descr=""/>
          <p:cNvPicPr/>
          <p:nvPr/>
        </p:nvPicPr>
        <p:blipFill>
          <a:blip r:embed="rId4"/>
          <a:stretch/>
        </p:blipFill>
        <p:spPr>
          <a:xfrm>
            <a:off x="3657600" y="4495680"/>
            <a:ext cx="18162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PACT Model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ACT te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AC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ACT 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ACT student achie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905120" y="4495680"/>
            <a:ext cx="50482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Have YOU Heard about IMPA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876920" y="4986360"/>
            <a:ext cx="382896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nt To Know More About IMPA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http://www.ncwiseowl.org/impac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876920" y="4986360"/>
            <a:ext cx="382896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an IMPACT Model Sch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-rich teaching and learning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-rich teaching and learning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aboration among teachers and media and technology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ong administrative leadership an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quate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0" y="5105520"/>
            <a:ext cx="4038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Implement the IMPACT Mod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24280" y="5181480"/>
            <a:ext cx="4038840" cy="1371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8120" y="685800"/>
            <a:ext cx="25905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4724280"/>
            <a:ext cx="153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3"/>
          </p:cNvPr>
          <p:cNvSpPr/>
          <p:nvPr/>
        </p:nvSpPr>
        <p:spPr>
          <a:xfrm>
            <a:off x="300960" y="59436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4"/>
              </a:rPr>
              <a:t>digital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oes It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lture of reading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aborative lessons/instructional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-centered, project-based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real-life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ed on higher-order thinking, problem-solv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d suc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ety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all oth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181480" y="5029200"/>
            <a:ext cx="3657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TAC (Media and Technology Advisory Committe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goals and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e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program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 challenges to instructional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ocate for the media and technology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recommend resources, hardware, and infra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495680" y="4876920"/>
            <a:ext cx="40388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dership, support, and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cus on technology-rich teaching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 and personnel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724280" y="5029200"/>
            <a:ext cx="40388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chnology Facilit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 lite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ing and men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 provision and 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advice and as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48320" y="5334120"/>
            <a:ext cx="403848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dia Coordin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 lite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ing appre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ectio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48320" y="5181480"/>
            <a:ext cx="4038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ex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ess student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k for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lebrate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648320" y="5181480"/>
            <a:ext cx="4038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1T10:10:57Z</dcterms:created>
  <dc:creator>Frances Brandburn</dc:creator>
  <dc:description/>
  <dc:language>en-US</dc:language>
  <cp:lastModifiedBy>PSRC</cp:lastModifiedBy>
  <cp:lastPrinted>2007-08-16T15:00:38Z</cp:lastPrinted>
  <dcterms:modified xsi:type="dcterms:W3CDTF">2007-08-21T02:11:28Z</dcterms:modified>
  <cp:revision>37</cp:revision>
  <dc:subject/>
  <dc:title>Slide 1</dc:title>
</cp:coreProperties>
</file>