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FBA-2BFA-4DCD-B232-2717F053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371-27AA-476D-8461-E7130063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18F-2E56-496F-93DF-6050C38E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1CE-24DF-4FC1-BEE8-F9526F07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B6B-4E43-4CA5-A087-7EC62E8A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1D5-E2A7-48D2-8F98-3ECB401F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64B-AD4C-4F72-8910-C75DA813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E1A-9CDB-440B-B682-48124341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7FA-DCBD-48A6-93CF-0A6604E3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663-F498-40DB-8685-C3EC9A4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305-D716-484A-8BB9-F270FEDA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98A-C597-42FC-83F2-D77B658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7766-C462-47B2-A064-64643E996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cwiseowl.org/impac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pMcfrLYDm2U" TargetMode="External"/><Relationship Id="rId4" Type="http://schemas.openxmlformats.org/officeDocument/2006/relationships/hyperlink" Target="file:///Impact%20Presentation.wmv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5905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embroke Mi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Home of the Warri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24160" cy="199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5808600"/>
            <a:ext cx="7620120" cy="150840"/>
          </a:xfrm>
          <a:prstGeom prst="rect">
            <a:avLst/>
          </a:prstGeom>
          <a:ln w="0">
            <a:noFill/>
          </a:ln>
        </p:spPr>
      </p:pic>
      <p:pic>
        <p:nvPicPr>
          <p:cNvPr id="44" name="warrior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18162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ACT Model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student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5120" y="4495680"/>
            <a:ext cx="5048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ve YOU Heard about IMP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nt To Know More About 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www.ncwiseowl.org/impac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n IMPACT Model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 among teachers and media and technology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dministrative leadership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t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510552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mplement the IMPACT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5181480"/>
            <a:ext cx="403884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8120" y="685800"/>
            <a:ext cx="2590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7242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/>
          </p:cNvPr>
          <p:cNvSpPr/>
          <p:nvPr/>
        </p:nvSpPr>
        <p:spPr>
          <a:xfrm>
            <a:off x="300960" y="59436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digital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of read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 lessons/instructional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-centered, project-bas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real-life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 higher-order thinking,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ll oth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81480" y="5029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TAC (Media and Technology Advisory Committe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goals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rogram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challenges to instruction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 for the media and technolog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recommend resources, hardware, and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5680" y="487692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, support, an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n technology-rich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and personne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502920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 Facilit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men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provision and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advice an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40384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a Coordin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appr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studen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ebra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0:10:57Z</dcterms:created>
  <dc:creator>Frances Brandburn</dc:creator>
  <dc:description/>
  <dc:language>en-US</dc:language>
  <cp:lastModifiedBy>PSRC</cp:lastModifiedBy>
  <cp:lastPrinted>2007-08-16T15:00:38Z</cp:lastPrinted>
  <dcterms:modified xsi:type="dcterms:W3CDTF">2007-08-21T02:11:28Z</dcterms:modified>
  <cp:revision>37</cp:revision>
  <dc:subject/>
  <dc:title>Slide 1</dc:title>
</cp:coreProperties>
</file>