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B58-20A4-4861-B801-0AC02DCF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90B-170A-4FDE-8BFD-9093E8B7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4D1-7168-43DB-85B7-55407CF5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8D8-3F15-446D-8E31-B18C4C19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10E4-F41A-4E29-8C22-702F3CCA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D602-2436-4204-8482-E8E7F51C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2F81-496A-4F2D-8717-B259FE74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492-AF01-4DE7-B923-BF275440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909A-F474-4CF3-A06C-229E84E3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5BC6-5AE8-48E5-8D89-2710289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7845-3E45-41B2-B4F2-4C85A2EF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277-0C1E-4CA3-AE0A-74B825C6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EF53-5BEA-4733-9783-497D599D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56CE-CAD6-42CB-B998-104CCA93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1700-7DE0-4DDC-82DA-9E6963C4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4204-1470-4881-ACDD-106A22F4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020A-D773-441C-8412-7E8CB431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21E-D3A1-409B-A87F-F06AE129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667-0561-4C81-8FC3-FFE23570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A90-3CC7-4845-960E-8066C85E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0E1-9448-4C84-96D3-53E6B099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80B-B437-4DBB-84EB-F0C11DF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B8D-EF73-4410-9A67-3864686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191-2B75-43DC-B3C9-E1304CFF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5377-757F-4559-AE47-97B0AB07E56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36DC-8075-447E-A4EA-FA64B3E5280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audio" Target="../media/stars10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audio" Target="../media/2001theme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-17280"/>
            <a:ext cx="8637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0" y="594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66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38560" y="263196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2160" y="3618000"/>
            <a:ext cx="72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gg</cp:lastModifiedBy>
  <dcterms:modified xsi:type="dcterms:W3CDTF">2006-06-19T06:47:22Z</dcterms:modified>
  <cp:revision>21</cp:revision>
  <dc:subject/>
  <dc:title>Greek Mythology, Monsters and Exotic Worlds, Part I </dc:title>
</cp:coreProperties>
</file>