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stars10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2001them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989-854F-4B87-8569-B2C282F9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2AB-6813-4F5B-BA43-B04C1FDD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AE5-F607-4AD7-BA76-03057899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BFE-7651-4BAA-9B26-B8BA581F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891F-266F-4742-849F-60FC1833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02B5-D0A8-49BB-A985-85F1D08B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7307-9E8F-423E-93A5-88E0644E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C983-9E02-4FB2-82AF-E93B48E5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9B5E-BB89-4531-B225-75FB01CE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1CF7-1DDE-4147-9E6C-0EABC12F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285E-0D64-4F7B-8469-2EEF1F52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A7F-0FC9-4237-911C-74CB14F3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684A-DC6F-4EFC-A544-E7452F0A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64AC-209F-494A-B95A-1A59C866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8E50-056B-47F2-AA6C-A7F0387D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1B9A-8CF7-45A3-970F-84372B24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371D-2624-4580-9236-B1558C77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06A-072E-44D4-84EE-99144783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82F-4F56-428C-A23C-EEC6BCD3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97E-1611-41BC-870A-663ABF6A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B20-944E-47F1-898D-E2F4E230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CFD-66DE-4E6F-9B0A-BA86D931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8C3-2AD1-4C21-89F7-E94C3830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03B-5784-4FEA-A992-B9B1FBD5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6E77-23A9-4550-9BEF-A8C9D41419F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06D7-F981-4043-BC04-7C0347E3710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audio" Target="../media/stars10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audio" Target="../media/2001theme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-17280"/>
            <a:ext cx="86374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d9f3"/>
                </a:solidFill>
                <a:uFillTx/>
                <a:latin typeface="Arial"/>
              </a:rPr>
              <a:t>Greek Mythology, Monsters and Exotic Worlds, Part I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970360" cy="3589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9400" y="2057400"/>
            <a:ext cx="280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40" y="59436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66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cc6600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3480" y="197496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440" y="2874960"/>
            <a:ext cx="85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145440" y="4232160"/>
            <a:ext cx="76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2160" y="478944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63760" y="583236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880" y="22176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03200" y="2689200"/>
            <a:ext cx="73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43520" y="3575160"/>
            <a:ext cx="72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7520" y="4603680"/>
            <a:ext cx="897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The moon monolith scene takes place at the moon cra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. Kubrick evidently scoured the list of moon crater nam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is a real crater name - and chose Tycho, the name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st nearly resembled Troy. Both names are short, both be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th T, and both contain the additional letters o and 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symbolizes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8160" y="2103480"/>
            <a:ext cx="84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on monolith is inside the walls of a pit. The pit's walls 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walls of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9080" y="2989440"/>
            <a:ext cx="790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astronauts in the pit, symbolizing the Trojans, curious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pect the object that stands within the wall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280" y="3889440"/>
            <a:ext cx="75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mething comes out of the monolith - a powerful sig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amed at Jupi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5400" y="4818240"/>
            <a:ext cx="88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ymbolized Trojans reel in pain. The surface story has n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ed for them to reel in pain, no need for the signal to be painfu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 even audible. Kubrick had the astronauts fall back in pai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cause he wanted to symbolize the pain of the dying Trojan warrior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240" y="2046240"/>
            <a:ext cx="82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44880" y="2903400"/>
            <a:ext cx="78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’s last name is Bowman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dysseus was the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70440" y="3903840"/>
            <a:ext cx="77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) When HAL locks Dave out of th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Discover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the myth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9600" y="570384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6880" y="1989000"/>
            <a:ext cx="63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38560" y="2631960"/>
            <a:ext cx="76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2160" y="3618000"/>
            <a:ext cx="72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33160" y="4745160"/>
            <a:ext cx="750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e movie is about creation by design –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omputers and their part in them - computers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n misfunction and cause destruction - or w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at all part of the plan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Different Analog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680" y="207504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movie came out in 1968, and peopl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TIL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on’t kn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198960" y="3084480"/>
            <a:ext cx="3174840" cy="3175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4880" y="3689280"/>
            <a:ext cx="301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watch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tac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see ho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15160" y="3274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tars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ou can’t have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without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Ilia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0920" y="217476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8840" y="327672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91120" y="2971800"/>
            <a:ext cx="26049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Trojan Ho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9040" y="225108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768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400" y="3962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840" y="5146560"/>
            <a:ext cx="82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1500 Words Or L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7480" y="2022480"/>
            <a:ext cx="84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26640" y="2708280"/>
            <a:ext cx="92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400" y="4232160"/>
            <a:ext cx="96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3440" y="5908680"/>
            <a:ext cx="855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r Hero Soldiers 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2720" y="225108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mol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720" y="354636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120" y="45370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480" y="575640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ust One More Adventure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9640" y="20988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7800" y="3048120"/>
            <a:ext cx="844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5680" y="590868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tory ends.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What happened the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600" y="20224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a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200" y="2784600"/>
            <a:ext cx="879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960" y="2057400"/>
            <a:ext cx="88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such a story, we can notice, the traveler keeps coming up agains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unexpected; in other words, dangers and distractions keep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vertaking one. Now "over" plus "take" add up to what in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nguages derived from Latin gets called SURPRISE; while com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pon or up against gets called ADVENTURE. So the odyssey we ha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en defining turns out to be a classic plot of adventure and surprise.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" y="480384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Odysse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08000" y="1649520"/>
            <a:ext cx="7394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2001the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05:32:03Z</dcterms:created>
  <dc:creator>Classics TAs</dc:creator>
  <dc:description/>
  <dc:language>en-US</dc:language>
  <cp:lastModifiedBy>gg</cp:lastModifiedBy>
  <dcterms:modified xsi:type="dcterms:W3CDTF">2006-06-19T06:47:22Z</dcterms:modified>
  <cp:revision>21</cp:revision>
  <dc:subject/>
  <dc:title>Greek Mythology, Monsters and Exotic Worlds, Part I </dc:title>
</cp:coreProperties>
</file>