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454-B098-4B6C-B1C5-EA317B2B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379-5824-4520-9377-AF8CDDF6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720-989B-47D7-A83F-0C6B4EC5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A15-82AE-4C51-B225-1BFDC75E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717-93CF-4628-B36E-08DC5C31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D806-1D23-4ED5-B873-FB8A38D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6727-F395-46AE-B5A7-418078BD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0D11-D58B-4C0D-95B7-8390DEF4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DBDB-D17F-409C-8EAD-268B5D6F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55B3-5B1F-470F-BBF5-3F206382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C69F-8DD0-4FCB-93A4-E8A6E5E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325-5CAF-49E9-A360-66F3A2D7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D42-865F-41C4-9863-14682972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7C60-2D93-4413-8644-B5F79CF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374A-AED8-4704-B4F0-8A5C1567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474-2AF3-46DB-B442-8C273D45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6515-DA19-48D9-8B55-73507DC5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5E6-0418-4A07-87B6-C04A8386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D1D-90E1-4D92-AF2F-899F14D2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23A-DCCF-4B89-8983-D57FC137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C33-D1C4-463F-B9A0-35A6CD50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AD9-46D1-48F7-AE6C-6867641D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B75-D9BB-4256-9295-EF650B5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EFA-2DF3-4531-91C2-6A91C45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8EF-CAC1-40F4-ADF5-95AED96D16C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FFAE-0182-4A4E-B19A-5F913F9549D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audio" Target="../media/stars10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audio" Target="../media/2001theme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-17280"/>
            <a:ext cx="8637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0" y="594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66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38560" y="263196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2160" y="3618000"/>
            <a:ext cx="72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gg</cp:lastModifiedBy>
  <dcterms:modified xsi:type="dcterms:W3CDTF">2006-06-19T06:47:22Z</dcterms:modified>
  <cp:revision>21</cp:revision>
  <dc:subject/>
  <dc:title>Greek Mythology, Monsters and Exotic Worlds, Part I </dc:title>
</cp:coreProperties>
</file>