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stars10.wav" ContentType="audio/x-wav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2001them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6F2-59E2-4FA7-98EB-E27C48C3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987B-39A6-43CC-9F20-7E01BB86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3CBB-92E6-420E-A6D6-DB35507B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FD8-2F20-4AD9-A28E-EA99491E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4CD3-6F0F-4C53-A252-B143B02D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2D23-4EC3-42EA-9AE2-E378F03F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6440-CA5A-4CD4-92C3-45068BFD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A52B-A7A7-4D13-BD3D-3A96A7A5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7819-CBB7-4D3C-A77C-1A534B8E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2827-97BF-4189-BE1F-C30D4C93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9027-B445-44F0-A2F9-2C8E0DE3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8691-58BE-4A10-AFCA-48C22CE9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84FF-A550-4B07-96F4-AFEF9AD8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69B5-EDF3-47E0-B409-E9435ECE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A4A1-2B73-49BE-86EF-8FCC8BC5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C5AC-B2BF-48C1-A936-EF0779E7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580D-158A-496B-AD40-86014BF7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239-BA4B-44A4-9AFD-050A0DB3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680D-A50A-45DD-8901-1F982174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2E91-7617-41A5-B87A-11D652A4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3117-3FB7-49EA-B4ED-E9995C64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2D7A-CE80-48E7-8310-DBDB8565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4DBF-3D5E-4A40-9148-04626F0D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A7D-B22C-4400-90F1-A46EF60D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688F-8F37-4057-8B23-8571721FE86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3CDA-A517-480D-84FE-CA9C5D5BA40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worldofteaching.com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audio" Target="../media/stars10.wav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audio" Target="../media/2001theme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-17280"/>
            <a:ext cx="86374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d9f3"/>
                </a:solidFill>
                <a:uFillTx/>
                <a:latin typeface="Arial"/>
              </a:rPr>
              <a:t>Greek Mythology, Monsters and Exotic Worlds, Part I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970360" cy="3589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9400" y="2057400"/>
            <a:ext cx="280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40" y="594360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66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cc6600"/>
                </a:solidFill>
                <a:uFillTx/>
                <a:latin typeface="Arial"/>
                <a:ea typeface="Arial"/>
                <a:hlinkClick r:id="rId3"/>
              </a:rPr>
              <a:t>http://www.worldofteaching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3480" y="197496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440" y="2874960"/>
            <a:ext cx="85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145440" y="4232160"/>
            <a:ext cx="76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2160" y="4789440"/>
            <a:ext cx="740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63760" y="583236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880" y="2217600"/>
            <a:ext cx="57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03200" y="2689200"/>
            <a:ext cx="73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43520" y="3575160"/>
            <a:ext cx="72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7520" y="4603680"/>
            <a:ext cx="897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) The moon monolith scene takes place at the moon cra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. Kubrick evidently scoured the list of moon crater nam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is a real crater name - and chose Tycho, the name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st nearly resembled Troy. Both names are short, both beg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th T, and both contain the additional letters o and y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symbolizes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8160" y="2103480"/>
            <a:ext cx="84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moon monolith is inside the walls of a pit. The pit's walls 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walls of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9080" y="2989440"/>
            <a:ext cx="790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astronauts in the pit, symbolizing the Trojans, curious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spect the object that stands within the wall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5280" y="3889440"/>
            <a:ext cx="75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mething comes out of the monolith - a powerful sign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amed at Jupi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5400" y="4818240"/>
            <a:ext cx="885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ymbolized Trojans reel in pain. The surface story has n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eed for them to reel in pain, no need for the signal to be painfu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 even audible. Kubrick had the astronauts fall back in pai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cause he wanted to symbolize the pain of the dying Trojan warrior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240" y="2046240"/>
            <a:ext cx="82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44880" y="2903400"/>
            <a:ext cx="78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’s last name is Bowman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Odysseus was the origi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70440" y="3903840"/>
            <a:ext cx="777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) When HAL locks Dave out of th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Discover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the myth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9600" y="5703840"/>
            <a:ext cx="77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6880" y="1989000"/>
            <a:ext cx="63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38560" y="2631960"/>
            <a:ext cx="764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2160" y="3618000"/>
            <a:ext cx="720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33160" y="4745160"/>
            <a:ext cx="750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e movie is about creation by design –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omputers and their part in them - computers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n misfunction and cause destruction - or w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at all part of the plan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Different Analog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680" y="2075040"/>
            <a:ext cx="84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the movie came out in 1968, and peopl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STILL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on’t kn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198960" y="3084480"/>
            <a:ext cx="3174840" cy="3175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4880" y="3689280"/>
            <a:ext cx="301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watch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201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tac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see how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15160" y="3274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tars1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ou can’t have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without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Ilia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0920" y="217476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8840" y="327672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191120" y="2971800"/>
            <a:ext cx="26049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Trojan Ho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9040" y="2251080"/>
            <a:ext cx="82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7680" y="426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400" y="396252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840" y="5146560"/>
            <a:ext cx="82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in 1500 Words Or Les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7480" y="2022480"/>
            <a:ext cx="84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26640" y="2708280"/>
            <a:ext cx="92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400" y="4232160"/>
            <a:ext cx="96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3440" y="5908680"/>
            <a:ext cx="855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r Hero Soldiers 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2720" y="2251080"/>
            <a:ext cx="86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mol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720" y="354636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120" y="45370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480" y="5756400"/>
            <a:ext cx="85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ust One More Adventure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9640" y="20988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7800" y="3048120"/>
            <a:ext cx="844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5680" y="590868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tory ends.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What happened the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600" y="202248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an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200" y="2784600"/>
            <a:ext cx="879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960" y="2057400"/>
            <a:ext cx="881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such a story, we can notice, the traveler keeps coming up agains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unexpected; in other words, dangers and distractions keep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vertaking one. Now "over" plus "take" add up to what in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nguages derived from Latin gets called SURPRISE; while com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pon or up against gets called ADVENTURE. So the odyssey we ha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en defining turns out to be a classic plot of adventure and surprise.”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" y="4803840"/>
            <a:ext cx="850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Odysse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08000" y="1649520"/>
            <a:ext cx="73947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2001the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05:32:03Z</dcterms:created>
  <dc:creator>Classics TAs</dc:creator>
  <dc:description/>
  <dc:language>en-US</dc:language>
  <cp:lastModifiedBy>gg</cp:lastModifiedBy>
  <dcterms:modified xsi:type="dcterms:W3CDTF">2006-06-19T06:47:22Z</dcterms:modified>
  <cp:revision>21</cp:revision>
  <dc:subject/>
  <dc:title>Greek Mythology, Monsters and Exotic Worlds, Part I </dc:title>
</cp:coreProperties>
</file>